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163-BB7A-4BBB-8631-14F61F62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971-4F37-4A2B-9019-3279E06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B3706-E2EB-4A10-9D6F-D4FABBD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888B2-33F6-4AC0-9BAD-958A3B25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06CF1-607E-4F73-8D9E-2DFDD00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94210-4B64-42DC-B520-E1E4492A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DB47-E674-4F15-AB63-7429279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6A4B-047A-49E1-8BAB-955FE36D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5FEB5-BA5B-431A-B310-E38855B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04C59-1132-4360-A282-43B1C94E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97AAA-2361-42E8-BA53-2458C758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E627-3C5E-4F73-B78A-48E8822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841-B82E-4AAD-A10C-ED5B2E8C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CA5E4-2795-4AB2-8ACF-0C8A716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50164-4E24-4838-BD1A-2C1D8220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FF308-9231-4603-8059-188FEB8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E2F2-0C94-473C-A861-CD3A9CB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0AC06-3D6C-4550-BE17-3BBC97E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2BAE7-AC33-4FE2-97EC-A9B13B6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C6E83-1906-4CB2-9C8B-FE91B5DE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1F826-065B-4CEE-9B6C-66DA29A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01C2E-B519-49CD-A10C-6C56290A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FC37-2DF5-4B3A-9F74-BDEAAB2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FD2-0987-4461-9F20-5FC09CDA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038F-9658-4983-801F-CFDC4130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5565D-63F8-429E-8ABE-69FDAC6A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3A23-1EDF-4802-84A7-69E2EA9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5AA4-B39E-46A1-9613-02F01EB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F943-D783-44AB-AEF5-315F43E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26B52-DA79-4740-B9A0-A720B43A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8FEBD-7F27-44A8-8968-3FD1C812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E92E4-ECC5-432A-BF8D-C0EFE48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4747-4C26-4052-9A1F-9452DFD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186B3-DA18-4CAB-A56D-BB0782D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428D-6FDC-4E92-885B-530A9818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3948-C319-4B1C-B2ED-8B9A7480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C257D-1ECF-433A-B130-93B58132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967A6-79BB-4ED5-B872-E762AEAC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D4270-0BAE-4169-A5B5-F946DA7D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FF6FB-B7C1-444B-B642-897157E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AE0AF-F111-49FD-964E-76495FA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1B238-D1AA-4A1C-A7F5-F97F78F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72D14-ADD6-4A17-BCBF-D56DC53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9B81E-FA4E-4C14-98A1-743BF25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F3095-10BA-41AB-AE9C-9A026E1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D59-0CAE-4DEE-BCD5-635BC35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60C56-EFD2-40E9-AD2B-3B2B68D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201C4-9DF9-4D23-B2AF-3CE4CAC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E95B8-9DCC-4FD3-876E-2D01C554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14B3C-EBBC-4513-B31E-E9201452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95CA0-F4F1-45AD-8D81-064EE59E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75A29-D876-4C93-811B-397DD31A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CEDA5-036C-4984-B5FB-5F2B380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F177D-6511-43C6-B054-6C4CB88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D52C9-FAD8-426D-A5DD-D58F68D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7856E-7890-4890-B469-E32165DA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BAD-358A-4D48-8E21-83ED9D08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AA95B-1EDB-490D-9B67-3236844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D2529-0654-4A75-BE6F-1C19B0D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3549E-98C4-4105-82BE-ED15F8E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2B47D-45F1-4D6B-8384-BA820DD3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F9C34-A799-4C07-8A2E-4FBCA39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2A031-7B28-4170-8E88-797AD7AD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EF2D8-2358-4207-B100-02AE2B85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3B208-213F-4111-B942-E959F09F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AA062-A9E1-4D3D-8420-C36418D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6DAF7-09F6-458E-9C2C-3DA97EA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EBA-41C9-42FC-A6A2-D4FD61E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542F0-87CA-4894-826D-E8252F67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DCCF4-9F68-44BD-A60B-437392D8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E7921-5EBE-4C4D-8BD9-DB654E6A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A632B-167C-4B8E-ABAA-D057BF46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A9122-1F2B-4CC9-92E7-A695557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51D6B-CFFD-4894-82C5-C9284F5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5331D-A3AD-4D48-8789-85F551C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51574-E11F-42FD-9546-8F5524FC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99531-B5C5-409A-8A05-D92F9645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97DFF-C065-41EA-A13D-0FE3534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249C-1671-4707-8D6A-DE306C4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262E7-1931-4E05-8D2B-0D6DE4BE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078E2-6AD3-4121-99FD-C2DC06D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26B0C-F5C4-479E-B7C9-2460585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BBA41-A5CC-42DA-9673-6F7E5B4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DA27C-0E56-47E5-8E18-FFECA69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F74C8-F060-4457-A7F4-7748BC4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81A6D-447D-42EA-A942-DAF809B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86E0B-30CA-49DC-9501-AED9576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E05A9-A33D-42A7-9925-477CE71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3A5AC-8AD3-47AA-A306-94F1C399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8ABE-ED87-4EA8-892C-7EAF85BA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2045D-EABB-494C-8FB3-15F9BF6B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21E80-1ACA-43CD-AF9A-A8532020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226B4-5BC8-4F43-8A18-0D3229B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D8F1B-37E6-49CC-94DB-E5CA406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2A91-A28B-420F-9D26-2B2F214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9D229-3730-4F21-BDCD-08527CA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D1ABF-1308-4A8D-AF2B-84A1F33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F283A-DAC0-46D4-AB25-70FFC6B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AB3C5-D99E-4823-8731-A5FB2ABD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8402C-89AF-4DB3-955A-7460362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46C2-F766-48BD-BB6A-8AAC733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32246-5D54-40D9-B83C-68D4F9D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11D3A-03ED-46D9-900C-9661F62A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FAFAD-1BE5-4911-95EC-DC7EF827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581CB-3321-4B95-AC6E-823A0C98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639FF-539D-4B85-8FE1-0E534F9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C4C33-B8D6-478A-B566-FA0A767A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BBBB2-4298-4F20-AFC9-8E43375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8038E-7E79-4D6A-9BB6-02C10466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73648-7392-4C5D-BF05-4A2FCBD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3E80D-2EF5-487D-AD23-1A4ED27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FED-B1C3-4B6D-9C61-1902195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FA8F-8E7E-4B41-94D9-747824F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6C209-2B4F-443A-9D07-A089AF9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02FB3-E1A0-4AB2-800F-A676322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DA6D5-EB94-4B68-8FB3-DF85C5F9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3B301-CE3D-48C4-89DE-2A6EEAE7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497F2-0F84-4E44-A5EF-04E2BDD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ED72C-3865-46A9-8C56-9D491A48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82F4C-BBE1-418C-883D-C45D87F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67246-4570-4F7B-B278-1576000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D3193-4C25-4796-960F-435F8624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514DF-8F3C-4D9B-AF36-5932ABF1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2B1-312A-4311-BFED-12C1D43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AF462-BB95-4357-9446-11943613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DEB98-35CA-4CA5-911B-1D635F3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7D7E3-76CE-49B5-AE16-3F2B8C3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BB7A2-113B-4AF8-9724-5BAD495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F1AFA-310C-452A-949C-16405CD7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24949-0861-41F2-A8A3-D72ED53A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7ACC8-DED2-4541-9BA5-AA740FF2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6971C-703B-4544-BAAE-A7036314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3411F-026A-440D-9026-52098B6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1853C-4CD8-4548-BCB9-881A0851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7DBD-D449-45AD-9FCA-BD15F30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B3BFE-A4E4-459E-99B4-A620FFE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1A17D-E9D2-4623-91D6-DA2117E7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482EF-A853-4E46-9553-3631E5C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DD923-E3E4-489B-8A4B-CF6C2E5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DE4D7-575C-45BE-B45D-8D9F45C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E8E83-F05F-4B40-AA2B-214D1A6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22356-D524-4CA0-B64A-A3FEDAE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7DF90-C07B-42F0-AFD8-65EBEA34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D5C0E-561B-4F98-A16F-FBE52705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9A69E-B366-4ECE-9D9C-4FC7E2F7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6C6-E661-4785-BF35-FA95B526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C4DC2-0126-49CD-BFE0-D62A9C5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49A11-56BE-444A-88D4-16D9286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5C1D4-1326-448E-B8E7-CE1E5AF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B5AE1-37C6-4555-9973-5ED67841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DA9EB-1E7A-47BC-AC32-A68C7AE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22FDE-0111-4CD2-87BA-E7AAD13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39DB5-D658-441D-B24F-D2F1EC9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317B5-D81D-4716-8C58-80D5219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8E023-E919-47DA-ADCB-77A4A59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D0D67-1591-4E97-82D9-33285982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726-5302-4B1A-8341-4806EEA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01177-3621-4259-BEC0-2BE47BFA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BBAD7-F952-4FE2-8C0B-618FA1E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B6691-A7D8-4DB8-8E86-FD9D288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D2775-4085-476A-828A-AAF30CDC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A9CFF-C6FB-4FA0-9562-8C7D123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2A64C-7EE3-4E0E-9F7B-6F6E19A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16079-601F-43A5-94A2-E4E09364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763F1-DA81-49CB-9BD2-4532F1B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4BA87-A333-4430-8B8B-E300CE4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DA9A6-8200-41B4-A69D-63A961D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A82F-1918-48F6-8573-EC446DB3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BAAF0-D105-4512-AF58-1E42900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1BB90-384C-4C8A-9DE3-B83E6B8E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327AB-5D2A-4293-BC30-92B1381C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E660-4D70-43A3-9E82-76008371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A05B-B736-4D85-8917-852A0764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F7C2-C13D-42C8-AEE8-3EE31997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D6B2-EE35-4B61-B630-B9CE975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051-817B-4B34-AD05-20D444C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605E-85EB-47D9-9CA4-F38DBA7E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785B-22BF-43C0-AFAD-90231CF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4C0A-789A-426E-B571-DF68437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C7C3-7AFD-4338-B802-0870FA3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2109-DD6F-45FF-8A6E-B5F5888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0891-2967-41DF-8B81-AB7D1ACA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501C-F8BD-4D18-9FB6-C16F722D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5C31-64FE-4FA2-B5D0-12BCC8CC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D2B3-11DF-4B4D-823E-608E928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1F59-357D-42AA-A1F8-4451947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493-8029-45FF-AE51-D3E074F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9D2B-AC07-4199-BB03-500959B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88BA-23F3-4ACF-B36B-E37FD1C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D436-C6CC-4CAD-9F0E-6F62290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A744-E502-45EB-AC46-A2924AEF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9745-040E-4E64-9D65-754C940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2185-BA73-445A-AA54-86D9B33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DB05-B051-4031-B48C-0967CB0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6F59-8152-4527-897F-995EFE2B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3C2B-8C95-4C0F-B5AA-550D8CF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128D-FD09-431A-B6B9-CF8095E5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F63-59F3-4BC3-B813-8C28323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2F27-3C71-457C-827E-20367F3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841C-48AE-4E77-B947-3CC70B6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43D8-FF73-4D3C-A8EA-742B47F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2096-1349-4B8B-AF31-192D6B1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32DC2-4098-48B3-B40D-1FF89E1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B368-FB18-4E0F-A81A-05F0D5A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9A43-351B-4F87-9932-378D294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C6C1-5398-4174-BCB9-0BCF2B9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B264-D869-48C7-B569-8EA6A81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FC35-957D-40D4-A54D-AD3CCCD2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228-7FED-4C71-B47D-5E03CBC0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11C5-1927-4D24-BC3E-573856D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F891-D5F6-4CD2-9242-04142A35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11DC-46C8-4D9F-885F-9F9FC6A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24DA-F634-4909-9CF4-CFA3F917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7F9B0-6EB1-411F-924A-BD59B53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93BA-9AD0-4C69-842B-65FB425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5CA8-A968-478A-AF71-FEA29985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34BE-7E6C-4C30-9166-D974146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70E7E-51CF-460D-8F7C-533923C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5A43-49B0-419B-B936-C59E865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005-30FF-4819-ADFB-658247C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B4EC-BD26-4F29-B12B-493AD0E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1E8E-2AAB-44AD-82EC-9A4385F5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5B7B-D725-419F-A5F9-C6A77D7D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CE447-7051-478B-BCC0-2466BE7D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77F3A-0788-48FB-923E-9ACEC218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93893-0F1B-48DE-8BFB-E31328B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B43E9-7160-43DB-836E-1E43FCC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255D-B40C-4768-8110-4DD4A22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3AD5-B911-483E-92E6-84FA4CF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EDF3-96F5-4932-A4DA-4FD0356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8BD-B8A0-435F-B8BC-6855E07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16FE-DC21-47F0-BD24-0DF04200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BADD-5372-411B-8C10-B4862D2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3731A-47D0-4AE1-B245-B3AD9C3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DE15F-619B-4D16-ADEB-FCAECB85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B542-8AC9-468E-A267-DA665495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C9D6-3962-41A6-A0FB-6374FDE2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2AC21-CC27-4302-A30F-B9DA6C9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126E-F043-4F77-A3C1-D0F741C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C0301-371B-4AE2-87A0-637917B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D57A-7ED0-45D0-8FFD-C3C2584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7D7-1FDF-4FA3-877C-058247D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69C1A-F346-4C6C-BD65-B20730F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4FD4-B224-4082-BBF2-3127211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1321-2B39-4AEB-9A0F-F28937A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CD10-170D-4AB4-9CCD-9D5E620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B9FC-6E64-4BF9-8B2A-6153930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54C69-899F-48F0-A764-5882C5FC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4238-B7D7-4F7F-B20D-60893129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13D7-06DE-4681-8262-42564173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46FA-9D36-4847-8F56-0368BC2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E7B37-B374-4072-8947-60BFBDB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090-8622-4DE0-9D7C-E65BF168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8240-5C93-4636-A298-63933A7FA9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980-487E-44C7-A886-3843F1031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514A-814D-43DC-8987-C86B7CBD8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87C-EDDD-421E-B101-30DCE8430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489-B0E5-451C-89D2-3920D907F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3F7-C87E-44C6-9F8D-70528D15C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1C5-9E40-49AE-97BC-FC21C0011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09B-6168-4A13-9F89-E5F30253B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E3B-836C-4481-BFD1-D9D5A5560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05D5-978C-4C62-AA37-6EF590327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FAD-0428-4D32-9FD6-429A6C81F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888-73D9-4B53-AAC0-577448952D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BA14-367D-47B6-8187-9DBE342E7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861-B635-4485-B419-8BE34CC52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7BE-4100-4CEF-8181-C9A1A7E2D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816-32E8-473F-8B02-3255CB038C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A48B-E114-49C3-B453-6B6BE7B61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4E3-D950-4D4C-B6B0-CB7064151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D3EB-5610-446F-BE35-02C53342A2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92B-EE17-44D4-9E0B-869D2F226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E86-21AF-42FC-A412-0745FFCCF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6B1-5D42-4EEF-8697-C1C4B5420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FD27-8B3D-4F2D-9E14-CFA3E93CA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8B5-1780-43A4-B31E-2011023D6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0C0D-DE51-41BF-A5CB-8DEA2C32A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416-372F-499A-AEAC-33B519A47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A66-79F9-4007-B3D8-0B8CD9662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3FE8-FF20-4BFE-A48C-279E5E034D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E53-229A-47C7-91BD-538D6A33D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2B8-D124-498C-9AC1-384DB2BFB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AF7-67CE-4729-9AA5-2805520E7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291D-2D51-4C1E-997C-41B539F4D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D89-AF55-4336-9777-0F1427911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8F4-0002-4176-9D11-56E269C26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0712-D22E-4DF4-A716-852411C91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5076-9A24-4E14-811B-5B1928167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B63F-4BDD-495F-9FA9-0179E5164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A9A0-16F8-4FC7-B0D1-E86D13D41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CFF-7FB8-4DE4-B675-7DC5882812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495360" y="3191040"/>
            <a:ext cx="815328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828720" y="1184400"/>
            <a:ext cx="7486560" cy="51418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250920" y="171468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250920" y="226224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250920" y="272556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6"/>
          <a:stretch/>
        </p:blipFill>
        <p:spPr>
          <a:xfrm>
            <a:off x="250920" y="3225960"/>
            <a:ext cx="8772480" cy="8110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7"/>
          <a:stretch/>
        </p:blipFill>
        <p:spPr>
          <a:xfrm>
            <a:off x="250920" y="408132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8"/>
          <a:stretch/>
        </p:blipFill>
        <p:spPr>
          <a:xfrm>
            <a:off x="250920" y="4583160"/>
            <a:ext cx="8772480" cy="831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9"/>
          <a:stretch/>
        </p:blipFill>
        <p:spPr>
          <a:xfrm>
            <a:off x="250920" y="539100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10"/>
          <a:stretch/>
        </p:blipFill>
        <p:spPr>
          <a:xfrm>
            <a:off x="250920" y="5891040"/>
            <a:ext cx="877248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318960" y="1171440"/>
            <a:ext cx="85042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1" descr=""/>
          <p:cNvPicPr/>
          <p:nvPr/>
        </p:nvPicPr>
        <p:blipFill>
          <a:blip r:embed="rId1"/>
          <a:stretch/>
        </p:blipFill>
        <p:spPr>
          <a:xfrm>
            <a:off x="566640" y="1290600"/>
            <a:ext cx="8008920" cy="4276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2"/>
          <a:stretch/>
        </p:blipFill>
        <p:spPr>
          <a:xfrm>
            <a:off x="3214800" y="4108320"/>
            <a:ext cx="642960" cy="4032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1500120" y="507204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568440" y="738360"/>
            <a:ext cx="8008920" cy="6056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2"/>
          <a:stretch/>
        </p:blipFill>
        <p:spPr>
          <a:xfrm>
            <a:off x="250920" y="121428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50920" y="16668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250920" y="22147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250920" y="271476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6"/>
          <a:stretch/>
        </p:blipFill>
        <p:spPr>
          <a:xfrm>
            <a:off x="250920" y="3203640"/>
            <a:ext cx="8772480" cy="8096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7"/>
          <a:stretch/>
        </p:blipFill>
        <p:spPr>
          <a:xfrm>
            <a:off x="250920" y="40212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8"/>
          <a:stretch/>
        </p:blipFill>
        <p:spPr>
          <a:xfrm>
            <a:off x="250920" y="4570560"/>
            <a:ext cx="8772480" cy="761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9"/>
          <a:stretch/>
        </p:blipFill>
        <p:spPr>
          <a:xfrm>
            <a:off x="250920" y="536724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10"/>
          <a:stretch/>
        </p:blipFill>
        <p:spPr>
          <a:xfrm>
            <a:off x="250920" y="58309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11"/>
          <a:stretch/>
        </p:blipFill>
        <p:spPr>
          <a:xfrm>
            <a:off x="250920" y="6319800"/>
            <a:ext cx="8772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114480" y="792000"/>
            <a:ext cx="8915400" cy="5877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5072040" y="278604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786800" y="278604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143240" y="3643200"/>
            <a:ext cx="1928880" cy="330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7500960" y="3643200"/>
            <a:ext cx="1214280" cy="330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928800" y="4060800"/>
            <a:ext cx="649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86400" cy="5276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3"/>
          <a:stretch/>
        </p:blipFill>
        <p:spPr>
          <a:xfrm>
            <a:off x="285840" y="190980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4"/>
          <a:stretch/>
        </p:blipFill>
        <p:spPr>
          <a:xfrm>
            <a:off x="285840" y="227952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5"/>
          <a:stretch/>
        </p:blipFill>
        <p:spPr>
          <a:xfrm>
            <a:off x="285840" y="2814480"/>
            <a:ext cx="8715240" cy="376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6"/>
          <a:stretch/>
        </p:blipFill>
        <p:spPr>
          <a:xfrm>
            <a:off x="285840" y="3267000"/>
            <a:ext cx="8715240" cy="782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7"/>
          <a:stretch/>
        </p:blipFill>
        <p:spPr>
          <a:xfrm>
            <a:off x="285840" y="4191120"/>
            <a:ext cx="8715240" cy="5950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8"/>
          <a:stretch/>
        </p:blipFill>
        <p:spPr>
          <a:xfrm>
            <a:off x="285840" y="483876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9"/>
          <a:stretch/>
        </p:blipFill>
        <p:spPr>
          <a:xfrm>
            <a:off x="285840" y="5310360"/>
            <a:ext cx="8715240" cy="568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10"/>
          <a:stretch/>
        </p:blipFill>
        <p:spPr>
          <a:xfrm>
            <a:off x="285840" y="5923080"/>
            <a:ext cx="871524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152280" y="966960"/>
            <a:ext cx="8839440" cy="5486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285840" y="223200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269568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3119400"/>
            <a:ext cx="8715240" cy="657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285840" y="3905280"/>
            <a:ext cx="8715240" cy="608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6"/>
          <a:stretch/>
        </p:blipFill>
        <p:spPr>
          <a:xfrm>
            <a:off x="285840" y="4565520"/>
            <a:ext cx="8715240" cy="374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7"/>
          <a:stretch/>
        </p:blipFill>
        <p:spPr>
          <a:xfrm>
            <a:off x="285840" y="4981680"/>
            <a:ext cx="8715240" cy="376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8"/>
          <a:stretch/>
        </p:blipFill>
        <p:spPr>
          <a:xfrm>
            <a:off x="285840" y="5440320"/>
            <a:ext cx="8715240" cy="592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9"/>
          <a:stretch/>
        </p:blipFill>
        <p:spPr>
          <a:xfrm>
            <a:off x="285840" y="6119640"/>
            <a:ext cx="871524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380880" y="736560"/>
            <a:ext cx="8382240" cy="5972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7072200" y="428616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1143000" y="5786280"/>
            <a:ext cx="7715160" cy="4050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1143000" y="6299280"/>
            <a:ext cx="77151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847800" y="987480"/>
            <a:ext cx="7448400" cy="55800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285840" y="988920"/>
            <a:ext cx="8715240" cy="946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85840" y="2011320"/>
            <a:ext cx="8715240" cy="779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290520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34178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3892680"/>
            <a:ext cx="8715240" cy="750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285840" y="47386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285840" y="523872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285840" y="5786280"/>
            <a:ext cx="87152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352440" y="922320"/>
            <a:ext cx="8439120" cy="5665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3000240" y="4691160"/>
            <a:ext cx="1143000" cy="404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285840" y="6167520"/>
            <a:ext cx="87152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41520" y="758880"/>
            <a:ext cx="8037360" cy="6057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75096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1751040"/>
            <a:ext cx="871524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223848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285840" y="2725560"/>
            <a:ext cx="8715240" cy="8128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285840" y="3654360"/>
            <a:ext cx="8715240" cy="798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8"/>
          <a:stretch/>
        </p:blipFill>
        <p:spPr>
          <a:xfrm>
            <a:off x="285840" y="445284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9"/>
          <a:stretch/>
        </p:blipFill>
        <p:spPr>
          <a:xfrm>
            <a:off x="285840" y="5037120"/>
            <a:ext cx="8715240" cy="770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10"/>
          <a:stretch/>
        </p:blipFill>
        <p:spPr>
          <a:xfrm>
            <a:off x="285840" y="58816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11"/>
          <a:stretch/>
        </p:blipFill>
        <p:spPr>
          <a:xfrm>
            <a:off x="285840" y="6346800"/>
            <a:ext cx="87152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352440" y="695160"/>
            <a:ext cx="8439120" cy="14385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2" descr=""/>
          <p:cNvPicPr/>
          <p:nvPr/>
        </p:nvPicPr>
        <p:blipFill>
          <a:blip r:embed="rId2"/>
          <a:stretch/>
        </p:blipFill>
        <p:spPr>
          <a:xfrm>
            <a:off x="781200" y="2133720"/>
            <a:ext cx="7866000" cy="473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6953400" y="594036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0:58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